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6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290F-C961-494A-89B3-0DF12ACB9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3800-9488-4CF9-BA60-1303F1E1F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DA80-9A83-46E8-9BF4-144DC35EF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C3A6-953C-49B8-8175-19931C522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CF13-AA5E-459B-AC3F-5E93E4548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C740-FF92-401E-9987-1948DC0B2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5A87-C093-444F-886F-3E75C6B83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CF5D-9E03-4B36-8DA7-B234325B3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2B91-E821-4F27-8400-1277E3F2F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5966-EACA-407A-9407-548291525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C59F-AA43-4195-AFE2-A3E63C098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467E-E193-4DDF-85F9-E38AF6E62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07B5-9A69-479D-BC28-B1D90EC7A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0D2D-09D2-4FD0-BFFB-DBD084665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027D-E3DF-4B28-80F3-05E1B485C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D2DF-6CCF-494B-8DBD-3C910CE93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AC9B-2695-440D-A1DE-38C14494A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6B77-0728-456A-BADA-4C347F99A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F78D-08D4-4E37-93D2-76AA49E1E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FA77-7E88-4212-AAE2-7AE2F9907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88A0-C59E-4EEF-AF21-D4630A677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A90F-DC3B-4C4D-9D22-5CEB35F4B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28A2-1132-4E1A-A7A4-62EF5D6AA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2818-0C75-4A7F-A37B-04E04E50E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EEA3-44E6-4408-8D65-663411857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4DAA-BD7A-4746-B307-789CDD9BC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DEFD-7B33-4ADE-9F84-EB9CEE03F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06BE-1630-451D-AAD1-534B278FC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B56C-07AA-45D7-857D-753BA51BF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C2EF-FF1E-4031-9E9E-72BD245D2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EAF8-136D-4358-AFBF-866866024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90E2-9A95-4BD3-97E1-B931A17C7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CFC0-76FD-4CAC-981C-E92FADDDF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E2D1-C92B-48EE-9B64-696CB5D91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57A3-10AB-4713-B671-7B0F245DC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BBF8-A839-450D-A2E6-5A9F8F73D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A97C-B5D8-4E19-8498-1CCA0B7E8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837A-5751-4583-BD59-2EB64B864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80A9-D73A-4304-825B-7BEB723B0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A2F5-79C0-4B64-87F0-62AE35E74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944E-0376-418B-A53B-B1A268C5F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8E5F-5795-492A-8117-2A2DE771A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06C1-573A-4F31-9D62-723E8DC12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C3F2-EC7D-4CD8-A82C-5D9CFC229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97FD-8AA3-47E2-8E76-C3CAD58B6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EA22-740D-40A0-9CF7-BFAF09068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92AF-2E71-4D86-AB95-448E88EAA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D9B8-526F-4B8A-AEB4-39FAE0664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AAF1-E62D-421C-AF3E-5D779F65B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861A-99CD-49B0-AF8E-5747ED418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27E0-2543-4B93-A8BA-EC477B348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579D-484C-41E8-9B6B-C27C721BD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AD9B-F54E-433F-A6EA-2583F6BBA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8717-43CD-4846-B8DA-0A11F72C9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0673-313C-4BED-ABDC-3CB6E6CD5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6A0A-DB5D-46B5-AE1D-BDA28226F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892B-5AB3-4234-8E02-E4315E8F6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3F29-F48E-4B29-8F77-7E8EF0A0A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A656-F63F-488C-938B-9579D0383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88C9-80C6-4F01-9376-FFFCBBE7D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E8AB-77B5-4E95-B1B8-AC847336C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9590-8A0C-43EE-ABCD-465DC15B1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8865-2DA2-483D-A950-B1CC478E9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38AF-8E5E-4387-8B3D-D16EB8C65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BEC1-F27A-471C-90AC-6F4632B62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C13B-14C0-4392-89B0-C4C5079AE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AA70-1867-46EC-BDCA-4CD6438C5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EBA-A286-4C07-A64B-6A188FEB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ABC-371A-4048-A694-787C79D6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B521-8CFE-463D-B2E6-6456B7C3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EBD-DD1F-438C-A061-58F0B1E8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5CD-4A66-4A96-A604-9329FC7F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53A-0C22-44D9-B8F3-B234809E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788C-81B2-49F8-A263-5A804B2E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2D44-7E78-42C6-9282-79FF3B7B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569E-FA0A-46D8-9FF7-79A9CD58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F3D-9620-4ECC-8D44-342E9562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4A1-9140-446C-8F6C-D529BA51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081A-F68D-414F-94D7-0DEAB7F7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02CA-1525-40E4-AB4F-A36CD590E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6.xml"/><Relationship Id="rId3" Type="http://schemas.openxmlformats.org/officeDocument/2006/relationships/slide" Target="slide66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6.xml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image" Target="../media/image2.jpeg"/><Relationship Id="rId3" Type="http://schemas.openxmlformats.org/officeDocument/2006/relationships/slide" Target="slide66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7 Habits</a:t>
            </a:r>
            <a:br>
              <a:rPr sz="80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f Highly Effective</a:t>
            </a:r>
            <a:br>
              <a:rPr sz="66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ee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ltimate Teenage Success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ook at the class list of situations and next to each one write one or two words that describe what you could do to deal with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’s too much to do and not enough time.”  --  priorit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 So -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all of the things that you have identified have in comm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m are probably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b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abi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ts are things we do repeate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time we are hardly aware that we hav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’re on autopil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Ha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bits?  [Make a lis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ing regu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respect for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d Ha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, list some of the not so good hab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You have to write these too!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neg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ling inf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ming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Good – Not B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bits don’t go on either list.  They are just things that we do that don’t have a positive or a negative imp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ing showers every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ing yogurt with a f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magazines from back to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see if our class list mat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1743120" y="1805040"/>
            <a:ext cx="53481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7 Habits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of Highly Effective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TEENS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 Effective Ha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the End in Mind (mission/go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oactive  (be responsible for your lif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pen the Saw (renew yoursel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First Things First (Priorit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 First to Understand, Then to Be Understood  (listen to peo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Win-Win (everyone can win attitu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ergize (work together to achieve m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classify the 7 Habits and give them some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hree (3) that are “private.”  They require self-mastery.  Self is always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re are three (3) that are “public.”  These require you to work with someone else – teamwork.  After self, then you can work with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n (7).  What about the last one.  Where does it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habit is one tha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ee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other six hab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put them in order and let’s see how you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read the poem and determine what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call out or share your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answer and show only your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Victory Ha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e habits deal wi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maste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4">
            <a:hlinkClick r:id="rId1" action="ppaction://hlinksldjump"/>
          </p:cNvPr>
          <p:cNvSpPr/>
          <p:nvPr/>
        </p:nvSpPr>
        <p:spPr>
          <a:xfrm>
            <a:off x="3657600" y="152388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>
            <a:hlinkClick r:id="rId2" action="ppaction://hlinksldjump"/>
          </p:cNvPr>
          <p:cNvSpPr/>
          <p:nvPr/>
        </p:nvSpPr>
        <p:spPr>
          <a:xfrm>
            <a:off x="685800" y="160020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>
            <a:hlinkClick r:id="rId3" action="ppaction://hlinksldjump"/>
          </p:cNvPr>
          <p:cNvSpPr/>
          <p:nvPr/>
        </p:nvSpPr>
        <p:spPr>
          <a:xfrm>
            <a:off x="6705720" y="168588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538280" y="361800"/>
            <a:ext cx="6248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ivate Victory Habits #1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>
            <a:hlinkClick r:id="rId1" action="ppaction://hlinksldjump"/>
          </p:cNvPr>
          <p:cNvSpPr/>
          <p:nvPr/>
        </p:nvSpPr>
        <p:spPr>
          <a:xfrm>
            <a:off x="3657600" y="152388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>
            <a:hlinkClick r:id="rId2" action="ppaction://hlinksldjump"/>
          </p:cNvPr>
          <p:cNvSpPr/>
          <p:nvPr/>
        </p:nvSpPr>
        <p:spPr>
          <a:xfrm>
            <a:off x="685800" y="160020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>
            <a:hlinkClick r:id="rId3" action="ppaction://hlinksldjump"/>
          </p:cNvPr>
          <p:cNvSpPr/>
          <p:nvPr/>
        </p:nvSpPr>
        <p:spPr>
          <a:xfrm>
            <a:off x="6705720" y="168588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538280" y="361800"/>
            <a:ext cx="6248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ivate Victory Habit #2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429000" y="335268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a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3657600" y="152388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>
            <a:hlinkClick r:id="rId1" action="ppaction://hlinksldjump"/>
          </p:cNvPr>
          <p:cNvSpPr/>
          <p:nvPr/>
        </p:nvSpPr>
        <p:spPr>
          <a:xfrm>
            <a:off x="685800" y="160020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6705720" y="168588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538280" y="361800"/>
            <a:ext cx="6248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ivate Victory Habit #3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557520" y="3352680"/>
            <a:ext cx="175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a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477120" y="3429000"/>
            <a:ext cx="190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d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762120" y="160020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3657600" y="1676520"/>
            <a:ext cx="1371600" cy="1447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6705720" y="168588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538280" y="361800"/>
            <a:ext cx="6248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ivate Victory Habi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209680" y="4038480"/>
            <a:ext cx="5257800" cy="240084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#1:  Be Proactive –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ake responsibility for your lif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4138560" y="320040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>
            <a:hlinkClick r:id="rId1" action="ppaction://hlinksldjump"/>
          </p:cNvPr>
          <p:cNvSpPr/>
          <p:nvPr/>
        </p:nvSpPr>
        <p:spPr>
          <a:xfrm>
            <a:off x="380880" y="5334120"/>
            <a:ext cx="685800" cy="99036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360"/>
              <a:gd name="textAreaBottom" fmla="*/ 946080 h 990360"/>
            </a:gdLst>
            <a:ahLst/>
            <a:rect l="textAreaLeft" t="textAreaTop" r="textAreaRight" b="textAreaBottom"/>
            <a:pathLst>
              <a:path w="21600" h="31187">
                <a:moveTo>
                  <a:pt x="0" y="0"/>
                </a:moveTo>
                <a:lnTo>
                  <a:pt x="21600" y="0"/>
                </a:lnTo>
                <a:lnTo>
                  <a:pt x="21600" y="31187"/>
                </a:lnTo>
                <a:lnTo>
                  <a:pt x="0" y="31187"/>
                </a:lnTo>
                <a:close/>
              </a:path>
              <a:path fill="lightenLess" w="21600" h="311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87">
                <a:moveTo>
                  <a:pt x="21600" y="0"/>
                </a:moveTo>
                <a:lnTo>
                  <a:pt x="21600" y="31187"/>
                </a:lnTo>
                <a:lnTo>
                  <a:pt x="20200" y="29787"/>
                </a:lnTo>
                <a:lnTo>
                  <a:pt x="20200" y="1400"/>
                </a:lnTo>
                <a:close/>
              </a:path>
              <a:path fill="darkenLess" w="21600" h="31187">
                <a:moveTo>
                  <a:pt x="21600" y="31187"/>
                </a:moveTo>
                <a:lnTo>
                  <a:pt x="0" y="31187"/>
                </a:lnTo>
                <a:lnTo>
                  <a:pt x="1400" y="29787"/>
                </a:lnTo>
                <a:lnTo>
                  <a:pt x="20200" y="29787"/>
                </a:lnTo>
                <a:close/>
              </a:path>
              <a:path fill="lighten" w="21600" h="31187">
                <a:moveTo>
                  <a:pt x="0" y="311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87"/>
                </a:lnTo>
                <a:close/>
              </a:path>
              <a:path fill="darken" w="21600" h="31187">
                <a:moveTo>
                  <a:pt x="3794" y="12286"/>
                </a:moveTo>
                <a:lnTo>
                  <a:pt x="7301" y="12286"/>
                </a:lnTo>
                <a:lnTo>
                  <a:pt x="7301" y="17622"/>
                </a:lnTo>
                <a:cubicBezTo>
                  <a:pt x="7301" y="18544"/>
                  <a:pt x="8102" y="19275"/>
                  <a:pt x="9138" y="19275"/>
                </a:cubicBezTo>
                <a:lnTo>
                  <a:pt x="10800" y="19275"/>
                </a:lnTo>
                <a:cubicBezTo>
                  <a:pt x="11836" y="19275"/>
                  <a:pt x="12636" y="18544"/>
                  <a:pt x="12636" y="17622"/>
                </a:cubicBezTo>
                <a:lnTo>
                  <a:pt x="12636" y="12286"/>
                </a:lnTo>
                <a:lnTo>
                  <a:pt x="10800" y="12286"/>
                </a:lnTo>
                <a:lnTo>
                  <a:pt x="14308" y="8779"/>
                </a:lnTo>
                <a:lnTo>
                  <a:pt x="17981" y="12286"/>
                </a:lnTo>
                <a:lnTo>
                  <a:pt x="16144" y="12286"/>
                </a:lnTo>
                <a:lnTo>
                  <a:pt x="16144" y="17622"/>
                </a:lnTo>
                <a:cubicBezTo>
                  <a:pt x="16144" y="20389"/>
                  <a:pt x="13568" y="22948"/>
                  <a:pt x="10800" y="22948"/>
                </a:cubicBezTo>
                <a:lnTo>
                  <a:pt x="9138" y="22948"/>
                </a:lnTo>
                <a:cubicBezTo>
                  <a:pt x="6370" y="22948"/>
                  <a:pt x="3794" y="20389"/>
                  <a:pt x="3794" y="1762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762120" y="160020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3657600" y="1676520"/>
            <a:ext cx="1371600" cy="1447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6705720" y="168588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538280" y="361800"/>
            <a:ext cx="6248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ivate Victory Habi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85800" y="3429000"/>
            <a:ext cx="5181480" cy="271260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#2: Begin with the End in Mi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fine your mission and goals in lif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 flipH="1" rot="16247400">
            <a:off x="5785920" y="3331080"/>
            <a:ext cx="1982880" cy="1714680"/>
          </a:xfrm>
          <a:custGeom>
            <a:avLst/>
            <a:gdLst>
              <a:gd name="textAreaLeft" fmla="*/ 360 w 1982880"/>
              <a:gd name="textAreaRight" fmla="*/ 1699920 w 1982880"/>
              <a:gd name="textAreaTop" fmla="*/ 1143360 h 1714680"/>
              <a:gd name="textAreaBottom" fmla="*/ 1715040 h 1714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>
            <a:hlinkClick r:id="rId1" action="ppaction://hlinksldjump"/>
          </p:cNvPr>
          <p:cNvSpPr/>
          <p:nvPr/>
        </p:nvSpPr>
        <p:spPr>
          <a:xfrm>
            <a:off x="7620120" y="5791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762120" y="160020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3657600" y="1676520"/>
            <a:ext cx="1371600" cy="1447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6705720" y="168588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538280" y="361800"/>
            <a:ext cx="6248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ivate Victory Habi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362320" y="3429000"/>
            <a:ext cx="6248160" cy="305604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#3 Put First Things Firs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ioritize, and do the most important things first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 rot="5400000">
            <a:off x="952560" y="3429000"/>
            <a:ext cx="1638000" cy="1409760"/>
          </a:xfrm>
          <a:custGeom>
            <a:avLst/>
            <a:gdLst>
              <a:gd name="textAreaLeft" fmla="*/ 0 w 1638000"/>
              <a:gd name="textAreaRight" fmla="*/ 1404000 w 1638000"/>
              <a:gd name="textAreaTop" fmla="*/ 939960 h 1409760"/>
              <a:gd name="textAreaBottom" fmla="*/ 1410120 h 14097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>
            <a:hlinkClick r:id="" action="ppaction://hlinkshowjump?jump=nextslide"/>
          </p:cNvPr>
          <p:cNvSpPr/>
          <p:nvPr/>
        </p:nvSpPr>
        <p:spPr>
          <a:xfrm>
            <a:off x="380880" y="5562720"/>
            <a:ext cx="685800" cy="9144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14400"/>
              <a:gd name="textAreaBottom" fmla="*/ 870120 h 914400"/>
            </a:gdLst>
            <a:ahLst/>
            <a:rect l="textAreaLeft" t="textAreaTop" r="textAreaRight" b="textAreaBottom"/>
            <a:pathLst>
              <a:path w="21600" h="28796">
                <a:moveTo>
                  <a:pt x="0" y="0"/>
                </a:moveTo>
                <a:lnTo>
                  <a:pt x="21600" y="0"/>
                </a:lnTo>
                <a:lnTo>
                  <a:pt x="21600" y="28796"/>
                </a:lnTo>
                <a:lnTo>
                  <a:pt x="0" y="28796"/>
                </a:lnTo>
                <a:close/>
              </a:path>
              <a:path fill="lightenLess" w="21600" h="28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6">
                <a:moveTo>
                  <a:pt x="21600" y="0"/>
                </a:moveTo>
                <a:lnTo>
                  <a:pt x="21600" y="28796"/>
                </a:lnTo>
                <a:lnTo>
                  <a:pt x="20200" y="27396"/>
                </a:lnTo>
                <a:lnTo>
                  <a:pt x="20200" y="1400"/>
                </a:lnTo>
                <a:close/>
              </a:path>
              <a:path fill="darkenLess" w="21600" h="28796">
                <a:moveTo>
                  <a:pt x="21600" y="28796"/>
                </a:moveTo>
                <a:lnTo>
                  <a:pt x="0" y="28796"/>
                </a:lnTo>
                <a:lnTo>
                  <a:pt x="1400" y="27396"/>
                </a:lnTo>
                <a:lnTo>
                  <a:pt x="20200" y="27396"/>
                </a:lnTo>
                <a:close/>
              </a:path>
              <a:path fill="lighten" w="21600" h="28796">
                <a:moveTo>
                  <a:pt x="0" y="28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6"/>
                </a:lnTo>
                <a:close/>
              </a:path>
              <a:path fill="darken" w="21600" h="28796">
                <a:moveTo>
                  <a:pt x="3794" y="11091"/>
                </a:moveTo>
                <a:lnTo>
                  <a:pt x="7301" y="11091"/>
                </a:lnTo>
                <a:lnTo>
                  <a:pt x="7301" y="16426"/>
                </a:lnTo>
                <a:cubicBezTo>
                  <a:pt x="7301" y="17349"/>
                  <a:pt x="8102" y="18080"/>
                  <a:pt x="9138" y="18080"/>
                </a:cubicBezTo>
                <a:lnTo>
                  <a:pt x="10800" y="18080"/>
                </a:lnTo>
                <a:cubicBezTo>
                  <a:pt x="11836" y="18080"/>
                  <a:pt x="12636" y="17349"/>
                  <a:pt x="12636" y="16426"/>
                </a:cubicBezTo>
                <a:lnTo>
                  <a:pt x="12636" y="11091"/>
                </a:lnTo>
                <a:lnTo>
                  <a:pt x="10800" y="11091"/>
                </a:lnTo>
                <a:lnTo>
                  <a:pt x="14308" y="7583"/>
                </a:lnTo>
                <a:lnTo>
                  <a:pt x="17981" y="11091"/>
                </a:lnTo>
                <a:lnTo>
                  <a:pt x="16144" y="11091"/>
                </a:lnTo>
                <a:lnTo>
                  <a:pt x="16144" y="16426"/>
                </a:lnTo>
                <a:cubicBezTo>
                  <a:pt x="16144" y="19194"/>
                  <a:pt x="13568" y="21753"/>
                  <a:pt x="10800" y="21753"/>
                </a:cubicBezTo>
                <a:lnTo>
                  <a:pt x="9138" y="21753"/>
                </a:lnTo>
                <a:cubicBezTo>
                  <a:pt x="6370" y="21753"/>
                  <a:pt x="3794" y="19194"/>
                  <a:pt x="3794" y="16426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Victory Ha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e are habits that deal with relationships and teamwor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Victory Habit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Pj0424428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1447920"/>
            <a:ext cx="243864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MPj04244280000[1]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14720" y="38671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MPj04244280000[1]"/>
          <p:cNvPicPr/>
          <p:nvPr/>
        </p:nvPicPr>
        <p:blipFill>
          <a:blip r:embed="rId5"/>
          <a:stretch/>
        </p:blipFill>
        <p:spPr>
          <a:xfrm>
            <a:off x="5715000" y="1523880"/>
            <a:ext cx="2438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Victory Habit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MPj04244280000[1]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1981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MPj04244280000[1]"/>
          <p:cNvPicPr/>
          <p:nvPr/>
        </p:nvPicPr>
        <p:blipFill>
          <a:blip r:embed="rId2"/>
          <a:stretch/>
        </p:blipFill>
        <p:spPr>
          <a:xfrm>
            <a:off x="3114720" y="38671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MPj04244280000[1]"/>
          <p:cNvPicPr/>
          <p:nvPr/>
        </p:nvPicPr>
        <p:blipFill>
          <a:blip r:embed="rId3"/>
          <a:stretch/>
        </p:blipFill>
        <p:spPr>
          <a:xfrm>
            <a:off x="5715000" y="1523880"/>
            <a:ext cx="2438280" cy="1981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7315200" y="1219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Win-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your constant companion.  I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reatest helper or heaviest bu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push you onward or drag you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ailure.  I am completely at your com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 the things I do you might just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over to me and I will be able to do them quickly and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Victory Habit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MPj04244280000[1]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1981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MPj04244280000[1]"/>
          <p:cNvPicPr/>
          <p:nvPr/>
        </p:nvPicPr>
        <p:blipFill>
          <a:blip r:embed="rId2"/>
          <a:stretch/>
        </p:blipFill>
        <p:spPr>
          <a:xfrm>
            <a:off x="3114720" y="38671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Pj04244280000[1]"/>
          <p:cNvPicPr/>
          <p:nvPr/>
        </p:nvPicPr>
        <p:blipFill>
          <a:blip r:embed="rId3"/>
          <a:stretch/>
        </p:blipFill>
        <p:spPr>
          <a:xfrm>
            <a:off x="5715000" y="1523880"/>
            <a:ext cx="2438280" cy="1981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7315200" y="1219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Win-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80880" y="333864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 First to 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5543640" y="4343400"/>
            <a:ext cx="847800" cy="1119240"/>
            <a:chOff x="5543640" y="4343400"/>
            <a:chExt cx="847800" cy="1119240"/>
          </a:xfrm>
        </p:grpSpPr>
        <p:sp>
          <p:nvSpPr>
            <p:cNvPr id="139" name="AutoShape 9"/>
            <p:cNvSpPr/>
            <p:nvPr/>
          </p:nvSpPr>
          <p:spPr>
            <a:xfrm>
              <a:off x="5543640" y="4343400"/>
              <a:ext cx="838080" cy="152280"/>
            </a:xfrm>
            <a:prstGeom prst="rightArrow">
              <a:avLst>
                <a:gd name="adj1" fmla="val 50000"/>
                <a:gd name="adj2" fmla="val 137589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0"/>
            <p:cNvSpPr/>
            <p:nvPr/>
          </p:nvSpPr>
          <p:spPr>
            <a:xfrm>
              <a:off x="5553000" y="5310360"/>
              <a:ext cx="838440" cy="152280"/>
            </a:xfrm>
            <a:prstGeom prst="rightArrow">
              <a:avLst>
                <a:gd name="adj1" fmla="val 50000"/>
                <a:gd name="adj2" fmla="val 137648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5543640" y="4343400"/>
              <a:ext cx="0" cy="10666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13"/>
          <p:cNvSpPr/>
          <p:nvPr/>
        </p:nvSpPr>
        <p:spPr>
          <a:xfrm>
            <a:off x="6648480" y="3962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6419880" y="4019400"/>
            <a:ext cx="2362320" cy="62748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ynergiz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6419880" y="5181480"/>
            <a:ext cx="2362320" cy="116100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harpen the Sa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18"/>
          <p:cNvSpPr txBox="1"/>
          <p:nvPr/>
        </p:nvSpPr>
        <p:spPr>
          <a:xfrm>
            <a:off x="5791320" y="457200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19"/>
          <p:cNvSpPr txBox="1"/>
          <p:nvPr/>
        </p:nvSpPr>
        <p:spPr>
          <a:xfrm>
            <a:off x="2610000" y="495288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20"/>
          <p:cNvSpPr txBox="1"/>
          <p:nvPr/>
        </p:nvSpPr>
        <p:spPr>
          <a:xfrm>
            <a:off x="2819520" y="396252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21"/>
          <p:cNvSpPr txBox="1"/>
          <p:nvPr/>
        </p:nvSpPr>
        <p:spPr>
          <a:xfrm>
            <a:off x="3429000" y="533412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22"/>
          <p:cNvSpPr txBox="1"/>
          <p:nvPr/>
        </p:nvSpPr>
        <p:spPr>
          <a:xfrm>
            <a:off x="3200400" y="327672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23"/>
          <p:cNvSpPr txBox="1"/>
          <p:nvPr/>
        </p:nvSpPr>
        <p:spPr>
          <a:xfrm>
            <a:off x="2895480" y="5867280"/>
            <a:ext cx="23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24"/>
          <p:cNvSpPr txBox="1"/>
          <p:nvPr/>
        </p:nvSpPr>
        <p:spPr>
          <a:xfrm>
            <a:off x="4038480" y="3276720"/>
            <a:ext cx="23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25"/>
          <p:cNvSpPr txBox="1"/>
          <p:nvPr/>
        </p:nvSpPr>
        <p:spPr>
          <a:xfrm>
            <a:off x="3962520" y="594360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26"/>
          <p:cNvSpPr txBox="1"/>
          <p:nvPr/>
        </p:nvSpPr>
        <p:spPr>
          <a:xfrm>
            <a:off x="5181480" y="3505320"/>
            <a:ext cx="23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27"/>
          <p:cNvSpPr txBox="1"/>
          <p:nvPr/>
        </p:nvSpPr>
        <p:spPr>
          <a:xfrm>
            <a:off x="4876920" y="594360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28"/>
          <p:cNvSpPr txBox="1"/>
          <p:nvPr/>
        </p:nvSpPr>
        <p:spPr>
          <a:xfrm>
            <a:off x="5562720" y="571500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Victory Ha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MPj04244280000[1]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1981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MPj04244280000[1]"/>
          <p:cNvPicPr/>
          <p:nvPr/>
        </p:nvPicPr>
        <p:blipFill>
          <a:blip r:embed="rId2"/>
          <a:stretch/>
        </p:blipFill>
        <p:spPr>
          <a:xfrm>
            <a:off x="3200400" y="1447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MPj04244280000[1]"/>
          <p:cNvPicPr/>
          <p:nvPr/>
        </p:nvPicPr>
        <p:blipFill>
          <a:blip r:embed="rId3"/>
          <a:stretch/>
        </p:blipFill>
        <p:spPr>
          <a:xfrm>
            <a:off x="5715000" y="1523880"/>
            <a:ext cx="2438280" cy="1981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609480" y="3733920"/>
            <a:ext cx="5867640" cy="245412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 – Think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in-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an everyone-can-win at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 flipH="1" rot="16200000">
            <a:off x="6333120" y="3743280"/>
            <a:ext cx="1676520" cy="1352520"/>
          </a:xfrm>
          <a:custGeom>
            <a:avLst/>
            <a:gdLst>
              <a:gd name="textAreaLeft" fmla="*/ -360 w 1676520"/>
              <a:gd name="textAreaRight" fmla="*/ 1436760 w 1676520"/>
              <a:gd name="textAreaTop" fmla="*/ 901800 h 1352520"/>
              <a:gd name="textAreaBottom" fmla="*/ 1352880 h 13525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7924680" y="5562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  <a:path fill="darken" w="21600" h="23394">
                <a:moveTo>
                  <a:pt x="3794" y="8389"/>
                </a:moveTo>
                <a:lnTo>
                  <a:pt x="7301" y="8389"/>
                </a:lnTo>
                <a:lnTo>
                  <a:pt x="7301" y="13725"/>
                </a:lnTo>
                <a:cubicBezTo>
                  <a:pt x="7301" y="14647"/>
                  <a:pt x="8102" y="15378"/>
                  <a:pt x="9138" y="15378"/>
                </a:cubicBezTo>
                <a:lnTo>
                  <a:pt x="10800" y="15378"/>
                </a:lnTo>
                <a:cubicBezTo>
                  <a:pt x="11836" y="15378"/>
                  <a:pt x="12636" y="14647"/>
                  <a:pt x="12636" y="13725"/>
                </a:cubicBezTo>
                <a:lnTo>
                  <a:pt x="12636" y="8389"/>
                </a:lnTo>
                <a:lnTo>
                  <a:pt x="10800" y="8389"/>
                </a:lnTo>
                <a:lnTo>
                  <a:pt x="14308" y="4882"/>
                </a:lnTo>
                <a:lnTo>
                  <a:pt x="17981" y="8389"/>
                </a:lnTo>
                <a:lnTo>
                  <a:pt x="16144" y="8389"/>
                </a:lnTo>
                <a:lnTo>
                  <a:pt x="16144" y="13725"/>
                </a:lnTo>
                <a:cubicBezTo>
                  <a:pt x="16144" y="16493"/>
                  <a:pt x="13568" y="19051"/>
                  <a:pt x="10800" y="19051"/>
                </a:cubicBezTo>
                <a:lnTo>
                  <a:pt x="9138" y="19051"/>
                </a:lnTo>
                <a:cubicBezTo>
                  <a:pt x="6370" y="19051"/>
                  <a:pt x="3794" y="16493"/>
                  <a:pt x="3794" y="13725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Victory Ha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MPj04244280000[1]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1981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MPj04244280000[1]"/>
          <p:cNvPicPr/>
          <p:nvPr/>
        </p:nvPicPr>
        <p:blipFill>
          <a:blip r:embed="rId2"/>
          <a:stretch/>
        </p:blipFill>
        <p:spPr>
          <a:xfrm>
            <a:off x="3200400" y="1447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MPj04244280000[1]"/>
          <p:cNvPicPr/>
          <p:nvPr/>
        </p:nvPicPr>
        <p:blipFill>
          <a:blip r:embed="rId3"/>
          <a:stretch/>
        </p:blipFill>
        <p:spPr>
          <a:xfrm>
            <a:off x="5715000" y="1523880"/>
            <a:ext cx="2438280" cy="1981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1600200" y="3772080"/>
            <a:ext cx="7238880" cy="22932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#5:  Seek First to Understand, Then to Be Understood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-Listen to people sincerely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 rot="5400000">
            <a:off x="266040" y="3543120"/>
            <a:ext cx="1524240" cy="1143000"/>
          </a:xfrm>
          <a:custGeom>
            <a:avLst/>
            <a:gdLst>
              <a:gd name="textAreaLeft" fmla="*/ 0 w 1524240"/>
              <a:gd name="textAreaRight" fmla="*/ 1306440 w 1524240"/>
              <a:gd name="textAreaTop" fmla="*/ 76212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304920" y="5562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9600" y="1861920"/>
            <a:ext cx="53341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ynergize –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ultimate team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Work together to achieve mor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1523880" y="457200"/>
            <a:ext cx="6096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OD JOB!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2" name="Picture 12" descr="MPj04306430000[1]"/>
          <p:cNvPicPr/>
          <p:nvPr/>
        </p:nvPicPr>
        <p:blipFill>
          <a:blip r:embed="rId1"/>
          <a:stretch/>
        </p:blipFill>
        <p:spPr>
          <a:xfrm>
            <a:off x="6110280" y="2209680"/>
            <a:ext cx="2538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t Only Leaves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abit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habit of renew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s the 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MCj01326350000[1]"/>
          <p:cNvPicPr/>
          <p:nvPr/>
        </p:nvPicPr>
        <p:blipFill>
          <a:blip r:embed="rId1"/>
          <a:stretch/>
        </p:blipFill>
        <p:spPr>
          <a:xfrm>
            <a:off x="409680" y="914400"/>
            <a:ext cx="2442960" cy="5175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3581280" y="1523880"/>
            <a:ext cx="37339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3052800" y="1576440"/>
            <a:ext cx="5791320" cy="3397320"/>
          </a:xfrm>
          <a:prstGeom prst="rect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#7: Sharpen the Saw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new </a:t>
            </a:r>
            <a:r>
              <a:rPr b="1" i="1" lang="en-US" sz="4300" spc="-1" strike="noStrike" u="sng">
                <a:solidFill>
                  <a:srgbClr val="000000"/>
                </a:solidFill>
                <a:uFillTx/>
                <a:latin typeface="Arial"/>
              </a:rPr>
              <a:t>yourself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regularly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MCj04300490000[1]"/>
          <p:cNvPicPr/>
          <p:nvPr/>
        </p:nvPicPr>
        <p:blipFill>
          <a:blip r:embed="rId2"/>
          <a:stretch/>
        </p:blipFill>
        <p:spPr>
          <a:xfrm>
            <a:off x="304920" y="5562720"/>
            <a:ext cx="1295280" cy="1022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MPj04073050000[1]"/>
          <p:cNvPicPr/>
          <p:nvPr/>
        </p:nvPicPr>
        <p:blipFill>
          <a:blip r:embed="rId3"/>
          <a:stretch/>
        </p:blipFill>
        <p:spPr>
          <a:xfrm>
            <a:off x="5425920" y="5334120"/>
            <a:ext cx="1043280" cy="1303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MPj04005530000[1]"/>
          <p:cNvPicPr/>
          <p:nvPr/>
        </p:nvPicPr>
        <p:blipFill>
          <a:blip r:embed="rId4"/>
          <a:stretch/>
        </p:blipFill>
        <p:spPr>
          <a:xfrm>
            <a:off x="6934320" y="5562720"/>
            <a:ext cx="1493640" cy="995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MPj04330550000[1]"/>
          <p:cNvPicPr/>
          <p:nvPr/>
        </p:nvPicPr>
        <p:blipFill>
          <a:blip r:embed="rId5"/>
          <a:stretch/>
        </p:blipFill>
        <p:spPr>
          <a:xfrm>
            <a:off x="2948040" y="5257800"/>
            <a:ext cx="1905120" cy="1263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MPj03143560000[1]"/>
          <p:cNvPicPr/>
          <p:nvPr/>
        </p:nvPicPr>
        <p:blipFill>
          <a:blip r:embed="rId6"/>
          <a:stretch/>
        </p:blipFill>
        <p:spPr>
          <a:xfrm>
            <a:off x="6781680" y="31240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84" name="WordArt 13"/>
          <p:cNvSpPr txBox="1"/>
          <p:nvPr/>
        </p:nvSpPr>
        <p:spPr>
          <a:xfrm rot="19773000">
            <a:off x="7324560" y="3580920"/>
            <a:ext cx="762120" cy="838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599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  </a:t>
            </a: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Renew   You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make or brea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kily, you are stronger than your hab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hang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see?  Stand up and fold your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the 7 Habits help w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" y="1295280"/>
          <a:ext cx="8229600" cy="5075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control of your li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more done in less tim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smarter decision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happ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along with your parent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 balance between school, work, friend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your values and what matters most to yo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come addic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1400040" y="1600200"/>
            <a:ext cx="63439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Engravers MT"/>
              </a:rPr>
              <a:t>Paradigms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Engravers MT"/>
              <a:ea typeface="Engraver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Engravers MT"/>
              </a:rPr>
              <a:t>and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Engravers MT"/>
              <a:ea typeface="Engraver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Engravers MT"/>
              </a:rPr>
              <a:t>Principles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Engravers MT"/>
              <a:ea typeface="Engraver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 10 All-Time Stupid Qu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going to hear a list of statements made many years ago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time, they sounded intellig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y sound to you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easily managed – you must mer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firm with me.  Show me exactly how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something done and after a f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I will do it automatically.  I am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ant of all great individuals and, alas,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ailures, as well. Those who are great,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made great.  Those who are failu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made fail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u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ree statements that you feel are valid in your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 to read a fe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s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you will hear some statements that real teens just like you hav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ust as ridiculous as the list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happen to your list in ten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they have in comm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–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rcep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the way things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– all inaccurate or incomplete, even though the people were convinced they were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nother word for perceptions i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Arial"/>
              </a:rPr>
              <a:t>paradig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[pronoun:  pair-a-dimes]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t is the way you see something, your point of view, frame of reference, or belief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ke g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incomplete paradigms about yourself or life in general, it’s like wearing glasses with the wrong prescri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ffect everything in your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 have paradigms about ourselves, other people, and life in gener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r paradigms helping or hindering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self-paradigms can put limitations o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self-paradigms can bring out the best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ing from different point of view can help us understand why other people act they way they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react to class mates that are moody or difficul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  And why do they act like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ually tell what your paradigm is by asking yourself the following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riving force of my lif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spend my time thinking abou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or what is my obsession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ever is important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become your paradigm, or your  &gt;  &gt;  &gt;  &gt;  &gt; 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fe-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ar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iends, stuff, boyfriend/girlfriend, school, parents, sports/hobbies, heroes, enemies, self, and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not a machine, though I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ll the precision of a machine 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lligence of a human.  You may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for a profit or run me for ruin –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no difference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-Cent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great to belong to a grou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s can be fickle, fake, talk behind your back, find new friends, forget abou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cause you to compromi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ndards to accommodat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Happ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get married, hav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adigms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ake as many friends as you can, but don’t build your life on them.  It’s an unstable foundation.”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1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6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1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live in a material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 to have the shiniest, fastest, nicest “things”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 wrong with accomplishing and enjoying our “stuff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, never center your life o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ng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3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8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3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yfriend/Girlfri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iest tra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MPj03988390000[1]"/>
          <p:cNvPicPr/>
          <p:nvPr/>
        </p:nvPicPr>
        <p:blipFill>
          <a:blip r:embed="rId1"/>
          <a:stretch/>
        </p:blipFill>
        <p:spPr>
          <a:xfrm>
            <a:off x="4648320" y="1523880"/>
            <a:ext cx="388620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center your life on your bf/gf what would happen if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make a rude comment abou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flirt with your (bff) best fri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ay, “I think we should date other peopl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you center your life on someone, the more unattractive you become to that pers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If you are centered on that other person, you are no longer hard to g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– It’s irritating when someone builds thei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ti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motional life around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 is more attractive than 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ing your life on another does not show that you love          them, only that you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on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495680" y="3067200"/>
            <a:ext cx="762120" cy="914400"/>
          </a:xfrm>
          <a:custGeom>
            <a:avLst/>
            <a:gdLst>
              <a:gd name="textAreaLeft" fmla="*/ 177480 w 762120"/>
              <a:gd name="textAreaRight" fmla="*/ 584280 w 76212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MCj02909070000[1]"/>
          <p:cNvPicPr/>
          <p:nvPr/>
        </p:nvPicPr>
        <p:blipFill>
          <a:blip r:embed="rId1"/>
          <a:stretch/>
        </p:blipFill>
        <p:spPr>
          <a:xfrm rot="19013400">
            <a:off x="3505320" y="4038120"/>
            <a:ext cx="79380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-Cent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 is vital to your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don’t let it be your only priority.  Don’t let dean’s list, GPAs, and AP classes take over your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o well in schoo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intain a healthy balance in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nt-Cent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your greatest source of love and gui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center 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fe on them, or them on you, it can end up to be a real nightm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e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uild everything around being the “greatest” ath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live around a movie or rock star – they will disappoint you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hate a group, person, or idea – you are warping your center of ex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aholism is a compulsion to have more “stuff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me, train me, be firm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 will place the world at your feet. 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with me and I will destroy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>
            <a:hlinkClick r:id="rId1" action="ppaction://hlinksldjump"/>
          </p:cNvPr>
          <p:cNvSpPr/>
          <p:nvPr/>
        </p:nvSpPr>
        <p:spPr>
          <a:xfrm>
            <a:off x="5257800" y="541008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493"/>
                </a:moveTo>
                <a:lnTo>
                  <a:pt x="13779" y="7493"/>
                </a:lnTo>
                <a:lnTo>
                  <a:pt x="13779" y="12828"/>
                </a:lnTo>
                <a:cubicBezTo>
                  <a:pt x="13779" y="13751"/>
                  <a:pt x="14580" y="14482"/>
                  <a:pt x="15616" y="14482"/>
                </a:cubicBezTo>
                <a:lnTo>
                  <a:pt x="17278" y="14482"/>
                </a:lnTo>
                <a:cubicBezTo>
                  <a:pt x="18314" y="14482"/>
                  <a:pt x="19114" y="13751"/>
                  <a:pt x="19114" y="12828"/>
                </a:cubicBezTo>
                <a:lnTo>
                  <a:pt x="19114" y="7493"/>
                </a:lnTo>
                <a:lnTo>
                  <a:pt x="17278" y="7493"/>
                </a:lnTo>
                <a:lnTo>
                  <a:pt x="20786" y="3985"/>
                </a:lnTo>
                <a:lnTo>
                  <a:pt x="24459" y="7493"/>
                </a:lnTo>
                <a:lnTo>
                  <a:pt x="22622" y="7493"/>
                </a:lnTo>
                <a:lnTo>
                  <a:pt x="22622" y="12828"/>
                </a:lnTo>
                <a:cubicBezTo>
                  <a:pt x="22622" y="15596"/>
                  <a:pt x="20046" y="18155"/>
                  <a:pt x="17278" y="18155"/>
                </a:cubicBezTo>
                <a:lnTo>
                  <a:pt x="15616" y="18155"/>
                </a:lnTo>
                <a:cubicBezTo>
                  <a:pt x="12848" y="18155"/>
                  <a:pt x="10271" y="15596"/>
                  <a:pt x="1027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7086600" y="5257800"/>
            <a:ext cx="1447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replay the po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-Cent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s aren’t relig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not American or Chin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not mine or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not up for discu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pply equaly to everyone – rich or poor – king or peasant – male, or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not be bought or s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-Cent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live by them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will exce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break them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will f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-Cent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 are som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d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titude, moderation, fairness, integrity, loyalty, respons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 Never F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faith to live by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 lier g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 disloyal friend g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rasp why principles always work, imagine living a life based on their opposites.  What would you be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4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4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4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4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4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4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4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4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aby Steps</a:t>
            </a:r>
            <a:br>
              <a:rPr sz="8800"/>
            </a:br>
            <a:br>
              <a:rPr sz="8800"/>
            </a:b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mall, powerful tools to help you ahieve your larger goal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Section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ff3300"/>
                </a:solidFill>
                <a:latin typeface="Arial"/>
              </a:rPr>
              <a:t>SORRY </a:t>
            </a:r>
            <a:br>
              <a:rPr sz="7700"/>
            </a:br>
            <a:br>
              <a:rPr sz="7700"/>
            </a:br>
            <a:r>
              <a:rPr b="0" lang="en-US" sz="7700" spc="-1" strike="noStrike">
                <a:solidFill>
                  <a:srgbClr val="000000"/>
                </a:solidFill>
                <a:latin typeface="Arial"/>
              </a:rPr>
              <a:t>Try</a:t>
            </a:r>
            <a:br>
              <a:rPr sz="7700"/>
            </a:br>
            <a:r>
              <a:rPr b="0" lang="en-US" sz="7700" spc="-1" strike="noStrike">
                <a:solidFill>
                  <a:srgbClr val="000000"/>
                </a:solidFill>
                <a:latin typeface="Arial"/>
              </a:rPr>
              <a:t>Again!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914400" y="5867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276200" y="60530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1752480" y="586728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2095560" y="60674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2681280" y="59101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9655"/>
                </a:moveTo>
                <a:lnTo>
                  <a:pt x="7301" y="9655"/>
                </a:lnTo>
                <a:lnTo>
                  <a:pt x="7301" y="14990"/>
                </a:lnTo>
                <a:cubicBezTo>
                  <a:pt x="7301" y="15913"/>
                  <a:pt x="8102" y="16644"/>
                  <a:pt x="9138" y="16644"/>
                </a:cubicBezTo>
                <a:lnTo>
                  <a:pt x="10800" y="16644"/>
                </a:lnTo>
                <a:cubicBezTo>
                  <a:pt x="11836" y="16644"/>
                  <a:pt x="12636" y="15913"/>
                  <a:pt x="12636" y="14990"/>
                </a:cubicBezTo>
                <a:lnTo>
                  <a:pt x="12636" y="9655"/>
                </a:lnTo>
                <a:lnTo>
                  <a:pt x="10800" y="9655"/>
                </a:lnTo>
                <a:lnTo>
                  <a:pt x="14308" y="6147"/>
                </a:lnTo>
                <a:lnTo>
                  <a:pt x="17981" y="9655"/>
                </a:lnTo>
                <a:lnTo>
                  <a:pt x="16144" y="9655"/>
                </a:lnTo>
                <a:lnTo>
                  <a:pt x="16144" y="14990"/>
                </a:lnTo>
                <a:cubicBezTo>
                  <a:pt x="16144" y="17758"/>
                  <a:pt x="13568" y="20317"/>
                  <a:pt x="10800" y="20317"/>
                </a:cubicBezTo>
                <a:lnTo>
                  <a:pt x="9138" y="20317"/>
                </a:lnTo>
                <a:cubicBezTo>
                  <a:pt x="6370" y="20317"/>
                  <a:pt x="3794" y="17758"/>
                  <a:pt x="3794" y="1499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"/>
          <p:cNvSpPr/>
          <p:nvPr/>
        </p:nvSpPr>
        <p:spPr>
          <a:xfrm>
            <a:off x="5562720" y="59436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9655"/>
                </a:moveTo>
                <a:lnTo>
                  <a:pt x="7301" y="9655"/>
                </a:lnTo>
                <a:lnTo>
                  <a:pt x="7301" y="14990"/>
                </a:lnTo>
                <a:cubicBezTo>
                  <a:pt x="7301" y="15913"/>
                  <a:pt x="8102" y="16644"/>
                  <a:pt x="9138" y="16644"/>
                </a:cubicBezTo>
                <a:lnTo>
                  <a:pt x="10800" y="16644"/>
                </a:lnTo>
                <a:cubicBezTo>
                  <a:pt x="11836" y="16644"/>
                  <a:pt x="12636" y="15913"/>
                  <a:pt x="12636" y="14990"/>
                </a:cubicBezTo>
                <a:lnTo>
                  <a:pt x="12636" y="9655"/>
                </a:lnTo>
                <a:lnTo>
                  <a:pt x="10800" y="9655"/>
                </a:lnTo>
                <a:lnTo>
                  <a:pt x="14308" y="6147"/>
                </a:lnTo>
                <a:lnTo>
                  <a:pt x="17981" y="9655"/>
                </a:lnTo>
                <a:lnTo>
                  <a:pt x="16144" y="9655"/>
                </a:lnTo>
                <a:lnTo>
                  <a:pt x="16144" y="14990"/>
                </a:lnTo>
                <a:cubicBezTo>
                  <a:pt x="16144" y="17758"/>
                  <a:pt x="13568" y="20317"/>
                  <a:pt x="10800" y="20317"/>
                </a:cubicBezTo>
                <a:lnTo>
                  <a:pt x="9138" y="20317"/>
                </a:lnTo>
                <a:cubicBezTo>
                  <a:pt x="6370" y="20317"/>
                  <a:pt x="3794" y="17758"/>
                  <a:pt x="3794" y="1499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1"/>
          <p:cNvSpPr/>
          <p:nvPr/>
        </p:nvSpPr>
        <p:spPr>
          <a:xfrm>
            <a:off x="6553080" y="594360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2"/>
          <p:cNvSpPr/>
          <p:nvPr/>
        </p:nvSpPr>
        <p:spPr>
          <a:xfrm>
            <a:off x="7543800" y="59436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9655"/>
                </a:moveTo>
                <a:lnTo>
                  <a:pt x="7301" y="9655"/>
                </a:lnTo>
                <a:lnTo>
                  <a:pt x="7301" y="14990"/>
                </a:lnTo>
                <a:cubicBezTo>
                  <a:pt x="7301" y="15913"/>
                  <a:pt x="8102" y="16644"/>
                  <a:pt x="9138" y="16644"/>
                </a:cubicBezTo>
                <a:lnTo>
                  <a:pt x="10800" y="16644"/>
                </a:lnTo>
                <a:cubicBezTo>
                  <a:pt x="11836" y="16644"/>
                  <a:pt x="12636" y="15913"/>
                  <a:pt x="12636" y="14990"/>
                </a:cubicBezTo>
                <a:lnTo>
                  <a:pt x="12636" y="9655"/>
                </a:lnTo>
                <a:lnTo>
                  <a:pt x="10800" y="9655"/>
                </a:lnTo>
                <a:lnTo>
                  <a:pt x="14308" y="6147"/>
                </a:lnTo>
                <a:lnTo>
                  <a:pt x="17981" y="9655"/>
                </a:lnTo>
                <a:lnTo>
                  <a:pt x="16144" y="9655"/>
                </a:lnTo>
                <a:lnTo>
                  <a:pt x="16144" y="14990"/>
                </a:lnTo>
                <a:cubicBezTo>
                  <a:pt x="16144" y="17758"/>
                  <a:pt x="13568" y="20317"/>
                  <a:pt x="10800" y="20317"/>
                </a:cubicBezTo>
                <a:lnTo>
                  <a:pt x="9138" y="20317"/>
                </a:lnTo>
                <a:cubicBezTo>
                  <a:pt x="6370" y="20317"/>
                  <a:pt x="3794" y="17758"/>
                  <a:pt x="3794" y="1499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3038400" y="6095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594360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6877080" y="6091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7867800" y="6105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is a jungle for everyone out of kindergarten and it helps to have a compass, or tool, that helps move us in the right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otional Roller Co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situations tha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to deal with in real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Somebody, please take notes!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Life is going to happen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it help to have a set o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you to deal with these types of iss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it hu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20:50:06Z</dcterms:created>
  <dc:creator>Janet Canfield</dc:creator>
  <dc:description/>
  <dc:language>en-US</dc:language>
  <cp:lastModifiedBy>NHBOE</cp:lastModifiedBy>
  <dcterms:modified xsi:type="dcterms:W3CDTF">2013-09-03T18:58:11Z</dcterms:modified>
  <cp:revision>55</cp:revision>
  <dc:subject/>
  <dc:title>7 Habits</dc:title>
</cp:coreProperties>
</file>